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83DE-45F3-41A6-BA24-ADC915D3A441}" type="slidenum">
              <a:rPr b="0" lang="ru-RU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AD2D-2D90-4FAE-9267-4B62746AE882}" type="slidenum">
              <a:rPr b="0" lang="ru-RU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17240" y="3724200"/>
            <a:ext cx="10464840" cy="540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ill Sans"/>
              </a:rPr>
              <a:t>Предложени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ill Sans"/>
              </a:rPr>
              <a:t>Межрегионального общественного движения (МОД) «Движение против рака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ill Sans"/>
              </a:rPr>
              <a:t>по дальнейшему совершенствованию медицинской помощ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ill Sans"/>
              </a:rPr>
              <a:t>населению Российской Федерации</a:t>
            </a:r>
            <a:br>
              <a:rPr sz="3200"/>
            </a:br>
            <a:br>
              <a:rPr sz="3200"/>
            </a:br>
            <a:r>
              <a:rPr b="1" i="1" lang="ru-RU" sz="2800" spc="-1" strike="noStrike">
                <a:solidFill>
                  <a:srgbClr val="000000"/>
                </a:solidFill>
                <a:latin typeface="Gill Sans"/>
              </a:rPr>
              <a:t>(к заседанию Совета общественных организаций по защите прав пациентов при Минздраве России)</a:t>
            </a:r>
            <a:br>
              <a:rPr sz="3200"/>
            </a:br>
            <a:br>
              <a:rPr sz="3200"/>
            </a:br>
            <a:r>
              <a:rPr b="1" lang="ru-RU" sz="1600" spc="-1" strike="noStrike">
                <a:solidFill>
                  <a:srgbClr val="000000"/>
                </a:solidFill>
                <a:latin typeface="Gill Sans"/>
              </a:rPr>
              <a:t>г.  Москва,    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26</a:t>
            </a:r>
            <a:r>
              <a:rPr b="1" lang="ru-RU" sz="1600" spc="-1" strike="noStrike">
                <a:solidFill>
                  <a:srgbClr val="000000"/>
                </a:solidFill>
                <a:latin typeface="Gill Sans"/>
              </a:rPr>
              <a:t>.0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6</a:t>
            </a:r>
            <a:r>
              <a:rPr b="1" lang="ru-RU" sz="1600" spc="-1" strike="noStrike">
                <a:solidFill>
                  <a:srgbClr val="000000"/>
                </a:solidFill>
                <a:latin typeface="Gill Sans"/>
              </a:rPr>
              <a:t>.2013 г.</a:t>
            </a:r>
            <a:br>
              <a:rPr sz="3200"/>
            </a:b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Oval 5"/>
          <p:cNvSpPr/>
          <p:nvPr/>
        </p:nvSpPr>
        <p:spPr>
          <a:xfrm>
            <a:off x="5024520" y="1971720"/>
            <a:ext cx="345960" cy="127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3" descr="Лоогтип со стрелками"/>
          <p:cNvPicPr/>
          <p:nvPr/>
        </p:nvPicPr>
        <p:blipFill>
          <a:blip r:embed="rId1"/>
          <a:stretch/>
        </p:blipFill>
        <p:spPr>
          <a:xfrm>
            <a:off x="5062680" y="339840"/>
            <a:ext cx="278100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02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old"/>
                <a:ea typeface="Arial Bold"/>
              </a:rPr>
              <a:t>ДОРОЖНАЯ КАРТА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294680" y="1563840"/>
            <a:ext cx="5400720" cy="79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"/>
              </a:rPr>
              <a:t>28 декабря 2012 года Распоряжением Правительства РФ утвержден план мероприятий, направленный на повышение эффективности здравоохранения «Дорожная карта»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"/>
              </a:rPr>
              <a:t>В 2013 г. на ее основе органами исполнительной власти должны быть разработаны региональные планы мероприятий «Дорожные карты»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142920" y="1204920"/>
            <a:ext cx="7007040" cy="837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101600" y="76320"/>
            <a:ext cx="10887120" cy="9677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279360" y="268200"/>
            <a:ext cx="12487320" cy="91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old"/>
                <a:ea typeface="Arial Bold"/>
              </a:rPr>
              <a:t>ПРОБЛЕМЫ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трат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ртикали вла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 здравоохранении в то время как значительная часть полномочий в сфере организации медицинской помощи страны отнесена к полномочиям и обязательствам субъектов РФ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санкций и механизмов дл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сональной ответстве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уководителей субъектов РФ за состояние медицинской помощи в регионе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ill Sans"/>
              </a:rPr>
              <a:t>Недостаточное качество и эффективность</a:t>
            </a:r>
            <a:r>
              <a:rPr b="1" lang="ru-RU" sz="2800" spc="-1" strike="noStrike">
                <a:solidFill>
                  <a:srgbClr val="000000"/>
                </a:solidFill>
                <a:latin typeface="Gill Sans"/>
              </a:rPr>
              <a:t> управленческих решений</a:t>
            </a:r>
            <a:r>
              <a:rPr b="0" lang="ru-RU" sz="2800" spc="-1" strike="noStrike">
                <a:solidFill>
                  <a:srgbClr val="000000"/>
                </a:solidFill>
                <a:latin typeface="Gill Sans"/>
              </a:rPr>
              <a:t> на всех уровнях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ill Sans"/>
              </a:rPr>
              <a:t>Отсутствие у </a:t>
            </a:r>
            <a:r>
              <a:rPr b="1" lang="ru-RU" sz="2800" spc="-1" strike="noStrike">
                <a:solidFill>
                  <a:srgbClr val="000000"/>
                </a:solidFill>
                <a:latin typeface="Gill Sans"/>
              </a:rPr>
              <a:t>Росздравнадзора полномочий</a:t>
            </a:r>
            <a:r>
              <a:rPr b="0" lang="ru-RU" sz="2800" spc="-1" strike="noStrike">
                <a:solidFill>
                  <a:srgbClr val="000000"/>
                </a:solidFill>
                <a:latin typeface="Gill Sans"/>
              </a:rPr>
              <a:t> принимать решения о наложении мер административного взыскания на субъекты правоотношений в сфере здравоохранения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; </a:t>
            </a:r>
            <a:r>
              <a:rPr b="0" lang="ru-RU" sz="2800" spc="-1" strike="noStrike">
                <a:solidFill>
                  <a:srgbClr val="000000"/>
                </a:solidFill>
                <a:latin typeface="Gill Sans"/>
              </a:rPr>
              <a:t>ограниченность контрольных полномочий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развитость </a:t>
            </a:r>
            <a:r>
              <a:rPr b="0" lang="ru-RU" sz="2800" spc="-1" strike="noStrike">
                <a:solidFill>
                  <a:srgbClr val="000000"/>
                </a:solidFill>
                <a:latin typeface="Gill Sans"/>
              </a:rPr>
              <a:t>механизмов </a:t>
            </a:r>
            <a:r>
              <a:rPr b="1" lang="ru-RU" sz="2800" spc="-1" strike="noStrike">
                <a:solidFill>
                  <a:srgbClr val="000000"/>
                </a:solidFill>
                <a:latin typeface="Gill Sans"/>
              </a:rPr>
              <a:t>общественного контроля</a:t>
            </a:r>
            <a:r>
              <a:rPr b="0" lang="ru-RU" sz="2800" spc="-1" strike="noStrike">
                <a:solidFill>
                  <a:srgbClr val="000000"/>
                </a:solidFill>
                <a:latin typeface="Gill Sans"/>
              </a:rPr>
              <a:t> в сфере охраны здоровья; слабая обратная связь между институтами общества и государства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Gill Sans"/>
              </a:rPr>
              <a:t>едостаточность </a:t>
            </a:r>
            <a:r>
              <a:rPr b="1" lang="ru-RU" sz="2800" spc="-1" strike="noStrike">
                <a:solidFill>
                  <a:srgbClr val="000000"/>
                </a:solidFill>
                <a:latin typeface="Gill Sans"/>
              </a:rPr>
              <a:t>финансирования отрасли 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дополнительных источнико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нансирования лимитирующая доступность инновационных медицинских технологий и лекарственных препаратов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02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 Bold"/>
                <a:ea typeface="Arial Bold"/>
              </a:rPr>
              <a:t>ПРЕДЛОЖЕНИЯ (1/5) </a:t>
            </a:r>
            <a:br>
              <a:rPr sz="8800"/>
            </a:b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718320" y="1060560"/>
            <a:ext cx="6121440" cy="742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29440" indent="-5655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Gill Sans"/>
              </a:rPr>
              <a:t>Модернизация законодательства Российской Федерации, которая позволит </a:t>
            </a:r>
            <a:r>
              <a:rPr b="1" lang="ru-RU" sz="2200" spc="-1" strike="noStrike">
                <a:solidFill>
                  <a:srgbClr val="000000"/>
                </a:solidFill>
                <a:latin typeface="Gill Sans"/>
              </a:rPr>
              <a:t>расширить полномочия и усилить механизмы воздействия </a:t>
            </a:r>
            <a:r>
              <a:rPr b="0" lang="ru-RU" sz="2200" spc="-1" strike="noStrike">
                <a:solidFill>
                  <a:srgbClr val="000000"/>
                </a:solidFill>
                <a:latin typeface="Gill Sans"/>
              </a:rPr>
              <a:t>федерального органа исполнительной власти, уполномоченного на выработку государственной политики в сфере здравоохранения (</a:t>
            </a:r>
            <a:r>
              <a:rPr b="1" lang="ru-RU" sz="2200" spc="-1" strike="noStrike">
                <a:solidFill>
                  <a:srgbClr val="000000"/>
                </a:solidFill>
                <a:latin typeface="Gill Sans"/>
              </a:rPr>
              <a:t>Минздрав России</a:t>
            </a:r>
            <a:r>
              <a:rPr b="0" lang="ru-RU" sz="2200" spc="-1" strike="noStrike">
                <a:solidFill>
                  <a:srgbClr val="000000"/>
                </a:solidFill>
                <a:latin typeface="Gill Sans"/>
              </a:rPr>
              <a:t>), </a:t>
            </a:r>
            <a:r>
              <a:rPr b="1" lang="ru-RU" sz="2200" spc="-1" strike="noStrike">
                <a:solidFill>
                  <a:srgbClr val="000000"/>
                </a:solidFill>
                <a:latin typeface="Gill Sans"/>
              </a:rPr>
              <a:t>на органы управления здравоохранением субъектов Российской Федерации</a:t>
            </a:r>
            <a:r>
              <a:rPr b="0" lang="ru-RU" sz="2200" spc="-1" strike="noStrike">
                <a:solidFill>
                  <a:srgbClr val="000000"/>
                </a:solidFill>
                <a:latin typeface="Gill Sans"/>
              </a:rPr>
              <a:t>,  в целях обеспечения единства государственной политики в сфере здравоохранения и реализации основных принципов охраны здоровья граждан, установленных в статьях 4 – 13  ФЗ «Об основах охраны здоровья граждан в Российской Федерации» от 21 ноября 2011 года № 323-ФЗ, на всей территории страны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09600" y="2284560"/>
            <a:ext cx="71438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0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 Bold"/>
                <a:ea typeface="Arial Bold"/>
              </a:rPr>
              <a:t>ПРЕДЛОЖЕНИЯ (2/5)</a:t>
            </a:r>
            <a:br>
              <a:rPr sz="8800"/>
            </a:b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578280" y="1420560"/>
            <a:ext cx="5972040" cy="70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29440" indent="-5655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ill Sans"/>
              </a:rPr>
              <a:t>Повышение персональной юридической ответственности</a:t>
            </a:r>
            <a:r>
              <a:rPr b="0" lang="ru-RU" sz="2400" spc="-1" strike="noStrike">
                <a:solidFill>
                  <a:srgbClr val="000000"/>
                </a:solidFill>
                <a:latin typeface="Gill Sans"/>
              </a:rPr>
              <a:t> высших должностных лиц субъектов Российской Федерации, их заместителей и руководителей органов управления здравоохранением субъектов Российской Федерации за ненадлежащее исполнение возложенных на них законодательством Российской Федерации обязанностей по защите прав граждан на охрану здоровья и медицинскую помощь, по координации вопросов здравоохранения, а также за последствия принимаемых ими решений  в рассматриваемой сфере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2139840"/>
            <a:ext cx="708984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16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old"/>
                <a:ea typeface="Arial Bold"/>
              </a:rPr>
              <a:t>ПРЕДЛОЖЕНИЯ (3/5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78640" y="1420560"/>
            <a:ext cx="6045120" cy="755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ill Sans"/>
              </a:rPr>
              <a:t>Наделение федерального органа исполнительной власти, выполняющего функции контроля и надзора в сфере здравоохранения </a:t>
            </a:r>
            <a:r>
              <a:rPr b="1" lang="ru-RU" sz="2400" spc="-1" strike="noStrike">
                <a:solidFill>
                  <a:srgbClr val="000000"/>
                </a:solidFill>
                <a:latin typeface="Gill Sans"/>
              </a:rPr>
              <a:t>(Росздравнадзор), административно-правовыми полномочиями</a:t>
            </a:r>
            <a:r>
              <a:rPr b="0" lang="ru-RU" sz="2400" spc="-1" strike="noStrike">
                <a:solidFill>
                  <a:srgbClr val="000000"/>
                </a:solidFill>
                <a:latin typeface="Gill Sans"/>
              </a:rPr>
              <a:t> по привлечению должностных лиц субъектов Российской Федерации к административной ответственности с одновременным совершенствованием законодательства Российской Федерации об административных правонарушениях в указанной сфере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885960" y="2068560"/>
            <a:ext cx="5472000" cy="66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16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 Bold"/>
                <a:ea typeface="Arial Bold"/>
              </a:rPr>
              <a:t>ПРЕДЛОЖЕНИЯ (4/5)</a:t>
            </a:r>
            <a:br>
              <a:rPr sz="8800"/>
            </a:b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578280" y="2212560"/>
            <a:ext cx="5972040" cy="597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ill Sans"/>
              </a:rPr>
              <a:t>Принятие </a:t>
            </a:r>
            <a:r>
              <a:rPr b="1" lang="ru-RU" sz="2800" spc="-1" strike="noStrike">
                <a:solidFill>
                  <a:srgbClr val="000000"/>
                </a:solidFill>
                <a:latin typeface="Gill Sans"/>
              </a:rPr>
              <a:t>федерального закона об общественном (гражданском) контроле</a:t>
            </a:r>
            <a:r>
              <a:rPr b="0" lang="ru-RU" sz="2800" spc="-1" strike="noStrike">
                <a:solidFill>
                  <a:srgbClr val="000000"/>
                </a:solidFill>
                <a:latin typeface="Gill Sans"/>
              </a:rPr>
              <a:t> и дальнейшее вовлечение институтов гражданского общества в формирование и мониторинг эффективности государственной политики в сфере охраны здоровья граждан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92160" y="2932200"/>
            <a:ext cx="63262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0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 Bold"/>
                <a:ea typeface="Arial Bold"/>
              </a:rPr>
              <a:t>ПРЕДЛОЖЕНИЯ (5/5)</a:t>
            </a:r>
            <a:br>
              <a:rPr sz="8800"/>
            </a:b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578640" y="1420920"/>
            <a:ext cx="6045120" cy="77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ill Sans"/>
              </a:rPr>
              <a:t>Поиск </a:t>
            </a:r>
            <a:r>
              <a:rPr b="1" lang="ru-RU" sz="2400" spc="-1" strike="noStrike">
                <a:solidFill>
                  <a:srgbClr val="000000"/>
                </a:solidFill>
                <a:latin typeface="Gill Sans"/>
              </a:rPr>
              <a:t>дополнительных источников финансирования</a:t>
            </a:r>
            <a:r>
              <a:rPr b="0" lang="ru-RU" sz="2400" spc="-1" strike="noStrike">
                <a:solidFill>
                  <a:srgbClr val="000000"/>
                </a:solidFill>
                <a:latin typeface="Gill Sans"/>
              </a:rPr>
              <a:t> здравоохранения (в первую очередь, диагностических и лечебных вмешательств), в том числе внедрение и стимулирование создания и участия в программах добровольного медицинского страхования, снижение количества неправомерных платежей граждан в медицинских организациях, стимулирование работодателей к участию в программах сооплаты медицинской помощи и сбережению здоровья работников (трудовых ресурсов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80880" y="2860560"/>
            <a:ext cx="6677280" cy="503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 Дронов</dc:creator>
  <dc:description/>
  <dc:language>en-US</dc:language>
  <cp:lastModifiedBy>ZaharovaVV</cp:lastModifiedBy>
  <dcterms:modified xsi:type="dcterms:W3CDTF">2013-06-27T08:22:42Z</dcterms:modified>
  <cp:revision>70</cp:revision>
  <dc:subject/>
  <dc:title>Слайд 1</dc:title>
</cp:coreProperties>
</file>